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05440" cy="9939240"/>
          </a:xfrm>
          <a:custGeom>
            <a:avLst/>
            <a:gdLst>
              <a:gd name="textAreaLeft" fmla="*/ 360 w 6805440"/>
              <a:gd name="textAreaRight" fmla="*/ 6805080 w 680544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46">
                <a:moveTo>
                  <a:pt x="5" y="0"/>
                </a:moveTo>
                <a:arcTo wR="5" hR="5" stAng="16200000" swAng="-5400000"/>
                <a:lnTo>
                  <a:pt x="0" y="31541"/>
                </a:lnTo>
                <a:arcTo wR="5" hR="5" stAng="10800000" swAng="-5400000"/>
                <a:lnTo>
                  <a:pt x="21595" y="315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5560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944064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55600" y="944064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DD533-74DB-443A-8A7C-4F5702B10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4BD6D-9BF5-4612-B254-D6B0FFAC6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8FF53-59A0-4409-9787-A7B4909C2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7A12C-376F-4C9A-8BC3-FAB54C57E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64C90-0AD1-47E1-AF7B-AC06A5BFE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C9E08-454E-4518-9EBA-92B7DF40F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8F40A-3B78-4C6F-9EAD-6D9ED2C5F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DAFB4-F96D-4F40-9908-3592BC711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4227F-C58A-45D8-A94A-B183D0F68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8F6D1-4B07-4A99-BA32-51F839420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31585-51A6-44B4-91A6-6DF4BDCC4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BFB7A-29B9-426C-84F9-D9BF410A8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BEBB-C45B-4CC2-A234-13A93F230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06400" y="944352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513A-8912-4CA2-A9B7-0F09F5F4D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7548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6DF7-9B5A-47C4-82D9-A60A4764C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128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616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0640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128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616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92D1-7FAC-4F6A-BC76-9E8B43220C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06400" y="2279160"/>
            <a:ext cx="7940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088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06400" y="876240"/>
            <a:ext cx="79408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06400" y="2279160"/>
            <a:ext cx="7940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A4D8-C26B-4C1B-B49E-4920B4606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7548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06400" y="944352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7548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128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616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0640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128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616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088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C41E-2265-46EA-B755-87580BC9C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3D84B-0088-4FE7-92C9-1532D71B5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5BC7-84E5-44ED-89F9-E2DA923DF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06400" y="876240"/>
            <a:ext cx="79408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3EFD-C3F4-4A8B-BEE3-7C7E0A37D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C7AF-5A45-4FE8-859E-1724AEF8C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7548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1B72-CD2A-48E3-B413-430B62D7D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D79E-0D10-4012-A82C-80DDD42E0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2276280"/>
            <a:ext cx="794088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gina </a:t>
            </a:r>
            <a:fld id="{1E07F938-F227-416D-BAD0-AF695281AE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2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92556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17BB1838-3292-4BBD-8DF1-6312F95886D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mailto:Peter.klaver@egem.n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631280" cy="10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ompliancy StUF standa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6560" y="4571640"/>
            <a:ext cx="6945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egroep St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Klaver, EGEM i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5-11-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lternatieve oplossingsrichtingen 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it marktconsultat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088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gebruik zijnde en (niet?)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oedwerkende koppelin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ventariseren 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ublic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der businessmod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keuringsinstituut / geen compliancy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rde integratie afspraken / overeenkom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/openbaar maken van probl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afhankelijke (veld) inspec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st/keuringssoftware i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pen sourc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ntwikk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79161023-0721-435D-ADCF-25F24CD2298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ervolgtra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4232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rktconsultatie kandidaat – keuringsinstitu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nwerking, condities en randvoorwaar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CT-leverancier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ING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rings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OM/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BO Over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O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besteding en sele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rming van inkoop/selectieteam en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FI – short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tractering /  inkoop keuringsinstitu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alisatie, test en accept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o-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611280" y="5300640"/>
            <a:ext cx="46083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222160" y="50846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go/no 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39640" y="4294080"/>
            <a:ext cx="46087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5150880" y="41497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go/no 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6843600" y="2060640"/>
            <a:ext cx="33480" cy="2016000"/>
          </a:xfrm>
          <a:prstGeom prst="line">
            <a:avLst/>
          </a:prstGeom>
          <a:ln w="7632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7419960" y="4221000"/>
            <a:ext cx="1440" cy="208764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6010920" y="2565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g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7451280" y="47242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 flipV="1">
            <a:off x="7419960" y="3284280"/>
            <a:ext cx="31680" cy="936360"/>
          </a:xfrm>
          <a:prstGeom prst="line">
            <a:avLst/>
          </a:prstGeom>
          <a:ln w="7632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ijdelijke aanduiding voor dianummer 1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26C30DB2-4D10-4038-81BB-2BCC20F7644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816360" cy="33688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4572000" y="4800600"/>
            <a:ext cx="38862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eter.klaver@egem.n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el. 06 3634 137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99BBB495-E3E2-47DF-8539-A2779E57106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4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UF keurmer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ikwijdte en toetsingsk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siness en organisatie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en aan Keuringsinstitu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automatiseerde compliancy 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nd van zaken en ver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EB340DA4-801B-4160-8703-3539F88D213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6334200" y="1700280"/>
            <a:ext cx="2809800" cy="32385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arom een StUF keurmerk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66978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Voordelen gemeenten en ove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betering interoperabiliteit in de prakt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inder koppelproblemen tussen software van verschillende leveranc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agere integratierisic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meenten krijgen meer grip op kwaliteit van de standaarden en op de (juiste) implementatie ervan in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meenschappelijke en onafhankelijke testvoorzi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Voordelen ICT Leveranc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inder testkosten (n * m testen naar n * 1 ) en (externe) onafhankelijke testhulpmiddelen/exper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eurmerk is “kwaliteitsstempel” en een marketinginstr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assend in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vulling van pijler ICT – certificering op (juist) gebruik van standaarden “StUF-keurmerk” op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lim organiseren, uitbesteden, samenwer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7380360" y="1062000"/>
            <a:ext cx="1333440" cy="12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D1EE1F8B-3C4B-49BA-9945-01824C0B0BA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045800"/>
            <a:ext cx="79423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tUF compliancy –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oftware die voldoet aan de toetsingscriteria en proces krijgt een StUF keurme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991640" y="1844640"/>
            <a:ext cx="1152360" cy="1104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1635120" cy="23050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4"/>
          <p:cNvSpPr/>
          <p:nvPr/>
        </p:nvSpPr>
        <p:spPr>
          <a:xfrm>
            <a:off x="468360" y="2708280"/>
            <a:ext cx="1655640" cy="23050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009800" y="278136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Progr.van Eis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2340000" y="2708280"/>
            <a:ext cx="504720" cy="2952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920320" y="2133720"/>
            <a:ext cx="507708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1720" indent="-531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raag en opzet op hoofdlijn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Legitimatie, doel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Business model ( taakverdeling en financiee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Business case voor keuringinstitu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est en keuringskader StUF Keurme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ikwijd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uringspro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bjectieve keuringscrite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sen aan ict leverancier en te keuren softw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isen aa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uringsinstitu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mpliancy voorzie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ijlag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EDA29144-B539-4E76-838D-8C0A2E015FA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ikwijdte Toetsingskader “StUF keurmerk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2060640"/>
            <a:ext cx="5435640" cy="354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7596360" y="1916280"/>
            <a:ext cx="1152360" cy="110484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16200000">
            <a:off x="3294720" y="3121200"/>
            <a:ext cx="1079640" cy="54144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U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00720" y="2060640"/>
            <a:ext cx="2952720" cy="2879640"/>
          </a:xfrm>
          <a:prstGeom prst="ellipse">
            <a:avLst/>
          </a:prstGeom>
          <a:solidFill>
            <a:srgbClr val="d1c1d1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4789440" y="2637000"/>
            <a:ext cx="2374920" cy="168264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V="1">
            <a:off x="3852720" y="2274840"/>
            <a:ext cx="1368720" cy="65088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852720" y="3932280"/>
            <a:ext cx="1152720" cy="64908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088960" y="5084640"/>
            <a:ext cx="3762000" cy="925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Het StUF keurmerk is GEEN garanti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dat een koppeling/service cor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werkt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08A2A1B7-7F7A-4352-9656-25E21D8DCDD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1085400"/>
            <a:ext cx="79423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werkingsgebied van de StUF standaard is breder dan alleen gemeen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968720" cy="3806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5364000" y="2133720"/>
            <a:ext cx="3490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 gemeentelijke ket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isgegevens uitwisselen en opvra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nengemeentelijke integrat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gemeentelijke ket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aakgegevens van/naar burgers/bedrij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meentelijke ketens waar geen XML-standaard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DF4814FF-0D82-419B-82BB-2372EAEC847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usiness-model - taakverde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626000" cy="4222800"/>
          </a:xfrm>
          <a:prstGeom prst="rect">
            <a:avLst/>
          </a:prstGeom>
          <a:ln w="0">
            <a:noFill/>
          </a:ln>
        </p:spPr>
      </p:pic>
      <p:sp>
        <p:nvSpPr>
          <p:cNvPr id="123" name="Oval 3"/>
          <p:cNvSpPr/>
          <p:nvPr/>
        </p:nvSpPr>
        <p:spPr>
          <a:xfrm>
            <a:off x="1116000" y="5373720"/>
            <a:ext cx="151128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Egem +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Waarderingskamer +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VROM/LV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VROM/BA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WKPB, …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3924360" y="5157720"/>
            <a:ext cx="1152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 org. King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722920" y="1928880"/>
            <a:ext cx="2960640" cy="41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spcBef>
                <a:spcPts val="349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uringsdienste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Uitvoeren keurin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&amp;O compliancyvoorzi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afh. inspect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apportage, admin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eerdere abonn.vorm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xtr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estdiensten, adv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ise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afhankelij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ransparant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wezen expertis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(keten)integrat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XML/SOAP, en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sten/toets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tenstandaard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979640" y="1916280"/>
            <a:ext cx="31687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5219640" y="2268360"/>
            <a:ext cx="432000" cy="395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4788000" y="4248000"/>
            <a:ext cx="431640" cy="1800"/>
          </a:xfrm>
          <a:prstGeom prst="line">
            <a:avLst/>
          </a:prstGeom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2"/>
          <a:stretch/>
        </p:blipFill>
        <p:spPr>
          <a:xfrm>
            <a:off x="1042920" y="4724280"/>
            <a:ext cx="604800" cy="5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0A683EFA-4611-42A0-835E-F94F2A30F6C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usiness-model  - financieel (voorste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626000" cy="42228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6720" y="2276280"/>
            <a:ext cx="40672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estering + exploitatiekosten verdisconteerd in opbrengsten van keur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tal keuringen &gt; 150 per j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CT leveranciers betalen de ke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euringsinstituut kan extra opbrengsten gener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ankgaranti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ING, Waarderingskamer, LVO en .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oor dekking investering/ opstartkosten van keuringinstituut bij onvoldoende opbrengs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I 3 jaar, tegen kostpr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1835280" y="3645000"/>
            <a:ext cx="64908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1835280" y="3500280"/>
            <a:ext cx="720720" cy="576360"/>
          </a:xfrm>
          <a:prstGeom prst="ellipse">
            <a:avLst/>
          </a:prstGeom>
          <a:solidFill>
            <a:srgbClr val="ccf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2700360" y="4221000"/>
            <a:ext cx="576360" cy="433440"/>
          </a:xfrm>
          <a:prstGeom prst="ellipse">
            <a:avLst/>
          </a:prstGeom>
          <a:solidFill>
            <a:srgbClr val="ccf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1187280" y="4653000"/>
            <a:ext cx="605160" cy="588960"/>
          </a:xfrm>
          <a:prstGeom prst="rect">
            <a:avLst/>
          </a:prstGeom>
          <a:ln w="0">
            <a:noFill/>
          </a:ln>
        </p:spPr>
      </p:pic>
      <p:sp>
        <p:nvSpPr>
          <p:cNvPr id="138" name="Oval 5"/>
          <p:cNvSpPr/>
          <p:nvPr/>
        </p:nvSpPr>
        <p:spPr>
          <a:xfrm>
            <a:off x="1763640" y="2349360"/>
            <a:ext cx="720720" cy="576360"/>
          </a:xfrm>
          <a:prstGeom prst="ellipse">
            <a:avLst/>
          </a:prstGeom>
          <a:solidFill>
            <a:srgbClr val="ccf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eur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216A45AE-D5FA-4ED6-AEB6-364F5C40BFD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isen aan compliancy voorzie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5473440" cy="3341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40000" y="2560680"/>
            <a:ext cx="2737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Ei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uncti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ikbaa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P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e 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houdbaa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breidbaa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8:25:17Z</dcterms:created>
  <dc:creator>Peter Klaver</dc:creator>
  <dc:description/>
  <dc:language>en-US</dc:language>
  <cp:lastModifiedBy>Peter</cp:lastModifiedBy>
  <dcterms:modified xsi:type="dcterms:W3CDTF">2009-11-26T06:35:42Z</dcterms:modified>
  <cp:revision>42</cp:revision>
  <dc:subject>Versterking StUF in 2009</dc:subject>
  <dc:title>StUF compliancy </dc:title>
</cp:coreProperties>
</file>